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B42-8F36-4F9A-9E30-532B20DA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1D4-2BBB-4009-AC0B-08630CF5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53D-B925-4D57-81B8-1E6FA6C9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766-4CFD-43D2-8E4B-2BFFCB44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D397-CA48-4EBE-B3FB-0E73878B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51DD-A883-4538-8B78-C618939C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67B7-A7E7-4FF6-81F3-69157F0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3019-B653-4D24-A1BB-AD3DED3F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1740-CDAC-49AE-BB76-E9B7E648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3587-0BE7-44D3-8D5D-09C741AF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B42B-6898-40AC-A1E9-673F576D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82D-01A2-4E49-943C-1F082E02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9734-5C75-4250-93FC-ABF374DA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1106-08EF-44E4-9B39-2D34C401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2CA9-F244-4DF8-9103-9AECA529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D5A7-A315-40AE-B961-17567151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EE40-F9AE-4548-883D-72F2ADBB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0F13-E186-4C4E-85D8-DC3E5FD5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E47FB-B281-443D-A7A9-5905A7A3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7F78E-75E9-48C8-B13C-38A37136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9E360-223A-447A-ADFB-DEDD8882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855B-64AC-48A2-B63D-A82860D5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658-E5C1-4AE2-8AD1-A31E6CF8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7CBD-31B5-4682-8510-CE0457F9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2EB6-7888-475D-ACDA-18DFD3D6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6F952-3A28-4935-8CD3-7178F3AE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607B-8C4F-46C0-B2DB-119107B0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3B61-28EA-48F6-80F7-144FC548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9283-BC8A-4140-9511-7066D719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5DA4-F864-4BE0-BCF2-6C2B632D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3951-EA02-47FE-AE5A-0654A4A1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6062-44D4-4248-A930-1E81B950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B893-26D6-4A03-8A09-9F274DC5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3F8-D68B-4963-9EC3-117F22B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AE1F9-4842-4106-B5BD-A59C1D3B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B5BB-CC05-4427-BEEC-E5F4E91D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392F-8AE0-4FCC-BB48-2C683E4E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BEC1-71AD-43CE-9A21-E859265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D1F6-B289-470C-895D-8B0D2A9D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C74D-2735-496A-95B2-07B0820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6F76-17EF-4EAF-AFB1-684A3D9E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5F0AD-E977-43AD-81BC-6EA49247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72859-335D-4293-9D39-B8FDD21A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F70D5-CDF9-49FC-A9A5-AB5F9E67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D71-ADF6-4E7E-B5E9-FC5E0D40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04B3-4C38-49F1-A1C4-9AAB90FB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8CB0-291D-417D-87CE-DEBEBB1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05B2B-4703-4E62-9D85-0B4F596C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C038B-9F4F-45DF-91EA-55A4199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38101-B714-4BCE-91C6-1350C740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6D123-8DF1-488D-ABC0-CBC39B7C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98B7-1C96-422E-9782-E626DCAE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544C-DDEB-4F02-9BE0-6F34FD6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1E78E-6F01-40A5-BCAA-7ECB1E57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0AD53-DD36-4B1F-8CA9-A377098D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9D1-7B96-4C05-AF9F-1077B3D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47289-EDDB-4557-A0BB-A571AA2E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E5881-7C79-43E9-A961-C42444A0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BA156-E22B-49FE-A9A9-0774DD5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EE102-03E0-4DAC-8901-DDC270EC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5077D-2FA7-410B-A163-049BF7B0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701C7-BEFD-4FE9-98C4-94F7AF2E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82C85-BB05-45F6-8B30-6A02B509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83EB3-A9C6-436F-AA72-963D9134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5FDFB-DB3F-430B-9BF6-6ACC9B6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0894-0E30-45BE-9819-EB44CC7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2C4-1F74-42BC-8863-A79A479B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D0269-6129-46E0-A4EC-FC6D575B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75CD9-31A9-4D79-9EDD-343FC3C7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E135C-9548-43F9-9BBF-E8D236BF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BCA-86DC-4283-B8E1-E820F801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419-C840-48E0-A605-D144E89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C766-D4BF-4ABE-AD89-0D9DA1B7CD3D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7797-A533-46F1-BA92-27A6F1354B81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721-028A-40FD-B101-F521A65A3AD0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92C7-0EF8-491D-BEF5-86180AA91689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22F1-D0A2-4FF4-94EE-96B6CB92E391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F9D0-57D2-438A-87B7-6E0893BC1E39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Subtitle 2" descr=""/>
          <p:cNvPicPr/>
          <p:nvPr/>
        </p:nvPicPr>
        <p:blipFill>
          <a:blip r:embed="rId1"/>
          <a:stretch/>
        </p:blipFill>
        <p:spPr>
          <a:xfrm>
            <a:off x="1841400" y="5834160"/>
            <a:ext cx="6637320" cy="50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XPLORATION STA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3" descr="C:\Users\Kevin Burgess\AppData\Local\Microsoft\Windows\Temporary Internet Files\Content.IE5\TF5EXL39\MP900409595[1].jpg"/>
          <p:cNvPicPr/>
          <p:nvPr/>
        </p:nvPicPr>
        <p:blipFill>
          <a:blip r:embed="rId2"/>
          <a:stretch/>
        </p:blipFill>
        <p:spPr>
          <a:xfrm>
            <a:off x="3581280" y="152280"/>
            <a:ext cx="28958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APER SHAP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shape and record its letter in the box on the recording sh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imate how many cubes you think it will take to fill the shap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rd your estimate on the recording sh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l in the shape with cub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 the number of cubes and write it on the recording sh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 the counters into groups of tens and singles and record your tens and sing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2" descr="C:\Users\Kevin Burgess\AppData\Local\Microsoft\Windows\Temporary Internet Files\Content.IE5\0E22Y26K\MC910227044[1].png"/>
          <p:cNvPicPr/>
          <p:nvPr/>
        </p:nvPicPr>
        <p:blipFill>
          <a:blip r:embed="rId1"/>
          <a:stretch/>
        </p:blipFill>
        <p:spPr>
          <a:xfrm>
            <a:off x="1981080" y="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09320" y="342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PAPER SHAPE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2" descr="C:\Users\Kevin Burgess\AppData\Local\Microsoft\Windows\Temporary Internet Files\Content.IE5\0E22Y26K\MC910227044[1].png"/>
          <p:cNvPicPr/>
          <p:nvPr/>
        </p:nvPicPr>
        <p:blipFill>
          <a:blip r:embed="rId1"/>
          <a:stretch/>
        </p:blipFill>
        <p:spPr>
          <a:xfrm>
            <a:off x="1981080" y="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YARN SHAP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ose a long piece of string and record the number on the recording she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 the string into a closed shap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the number of tens and ones it will take to fill in the shape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cubes or tiles to fill the shap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the counters into tens and singles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C:\Users\Kevin Burgess\AppData\Local\Microsoft\Windows\Temporary Internet Files\Content.IE5\NYPVPCIT\MP900427836[1].jpg"/>
          <p:cNvPicPr/>
          <p:nvPr/>
        </p:nvPicPr>
        <p:blipFill>
          <a:blip r:embed="rId1"/>
          <a:stretch/>
        </p:blipFill>
        <p:spPr>
          <a:xfrm>
            <a:off x="1905120" y="0"/>
            <a:ext cx="13111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362320" y="3580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YARN SHAPE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2" descr="C:\Users\Kevin Burgess\AppData\Local\Microsoft\Windows\Temporary Internet Files\Content.IE5\NYPVPCIT\MP900427836[1].jpg"/>
          <p:cNvPicPr/>
          <p:nvPr/>
        </p:nvPicPr>
        <p:blipFill>
          <a:blip r:embed="rId1"/>
          <a:stretch/>
        </p:blipFill>
        <p:spPr>
          <a:xfrm>
            <a:off x="1905120" y="0"/>
            <a:ext cx="13111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EAN COLLAG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bean collage. How many beans do you think are on the pictu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many groups of 10 do you think there might b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yarn to capture groups of ten bean.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rd your groups of ten and leftovers on the recording sh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many beans are on the collage? Reco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nother bean collage and repe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2" descr="C:\Users\Kevin Burgess\AppData\Local\Microsoft\Windows\Temporary Internet Files\Content.IE5\4BYIU1YL\MP900432981[1].jpg"/>
          <p:cNvPicPr/>
          <p:nvPr/>
        </p:nvPicPr>
        <p:blipFill>
          <a:blip r:embed="rId1"/>
          <a:stretch/>
        </p:blipFill>
        <p:spPr>
          <a:xfrm>
            <a:off x="1905120" y="0"/>
            <a:ext cx="1119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361960" y="34286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BEAN COLLAGE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Picture 2" descr="C:\Users\Kevin Burgess\AppData\Local\Microsoft\Windows\Temporary Internet Files\Content.IE5\4BYIU1YL\MP900432981[1].jpg"/>
          <p:cNvPicPr/>
          <p:nvPr/>
        </p:nvPicPr>
        <p:blipFill>
          <a:blip r:embed="rId1"/>
          <a:stretch/>
        </p:blipFill>
        <p:spPr>
          <a:xfrm>
            <a:off x="1905120" y="0"/>
            <a:ext cx="1119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ITTE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ce your hand with all of the fingers together and the thumb ou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the number of cubes or tiles it will take to fill in the “mitten”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cubes or tiles and fill in the mitten, count the number of cubes or tiles and record the numb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the counters in as many tens as possible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2" descr="C:\Users\Kevin Burgess\AppData\Local\Microsoft\Windows\Temporary Internet Files\Content.IE5\ZC9ZEG4L\MC900094737[1].wmf"/>
          <p:cNvPicPr/>
          <p:nvPr/>
        </p:nvPicPr>
        <p:blipFill>
          <a:blip r:embed="rId1"/>
          <a:stretch/>
        </p:blipFill>
        <p:spPr>
          <a:xfrm>
            <a:off x="1828800" y="0"/>
            <a:ext cx="16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3276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MITTENS &amp; GLOVE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2" descr="C:\Users\Kevin Burgess\AppData\Local\Microsoft\Windows\Temporary Internet Files\Content.IE5\ZC9ZEG4L\MC900094737[1].wmf"/>
          <p:cNvPicPr/>
          <p:nvPr/>
        </p:nvPicPr>
        <p:blipFill>
          <a:blip r:embed="rId1"/>
          <a:stretch/>
        </p:blipFill>
        <p:spPr>
          <a:xfrm>
            <a:off x="152280" y="1752480"/>
            <a:ext cx="16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Users\Kevin Burgess\AppData\Local\Microsoft\Windows\Temporary Internet Files\Content.IE5\KV7Y2FF1\MC900200237[1].wmf"/>
          <p:cNvPicPr/>
          <p:nvPr/>
        </p:nvPicPr>
        <p:blipFill>
          <a:blip r:embed="rId2"/>
          <a:stretch/>
        </p:blipFill>
        <p:spPr>
          <a:xfrm rot="10122000">
            <a:off x="2013840" y="100080"/>
            <a:ext cx="181908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LOV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crayon to trace your hand with the thumb and fingers spread apar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the number of cubes or tiles it will take to fill in the “glove”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cubes or tiles and fill the glove, count the number of cubes and record the numb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the counters in as many tens as possible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C:\Users\Kevin Burgess\AppData\Local\Microsoft\Windows\Temporary Internet Files\Content.IE5\KV7Y2FF1\MC900200237[1].wmf"/>
          <p:cNvPicPr/>
          <p:nvPr/>
        </p:nvPicPr>
        <p:blipFill>
          <a:blip r:embed="rId1"/>
          <a:stretch/>
        </p:blipFill>
        <p:spPr>
          <a:xfrm>
            <a:off x="1905120" y="152280"/>
            <a:ext cx="18190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3276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ON AND OFF 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1" name="Picture 2" descr="C:\Documents and Settings\afloyd\Local Settings\Temporary Internet Files\Content.IE5\0ZTJUMNT\MC900390936[1].wmf"/>
          <p:cNvPicPr/>
          <p:nvPr/>
        </p:nvPicPr>
        <p:blipFill>
          <a:blip r:embed="rId1"/>
          <a:stretch/>
        </p:blipFill>
        <p:spPr>
          <a:xfrm>
            <a:off x="1981080" y="76320"/>
            <a:ext cx="21337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AG O’ THING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b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many do you think you have? Do you think you have enough to fit in a ten fram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you have some leftov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ten frame and see how many items you h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rd your find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different b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you think this bag has more/less than your other ba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4" descr="C:\Users\Kevin Burgess\AppData\Local\Microsoft\Windows\Temporary Internet Files\Content.IE5\NYPVPCIT\MP900402393[1].jpg"/>
          <p:cNvPicPr/>
          <p:nvPr/>
        </p:nvPicPr>
        <p:blipFill>
          <a:blip r:embed="rId1"/>
          <a:stretch/>
        </p:blipFill>
        <p:spPr>
          <a:xfrm>
            <a:off x="1828800" y="0"/>
            <a:ext cx="251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ON AND OFF GAM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438280" y="2285640"/>
            <a:ext cx="65534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7 counters over a piece of pap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unters land on the paper?  How many counters land off the pap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your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ive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using 10 cou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C:\Documents and Settings\afloyd\Local Settings\Temporary Internet Files\Content.IE5\0ZTJUMNT\MC900390936[1].wmf"/>
          <p:cNvPicPr/>
          <p:nvPr/>
        </p:nvPicPr>
        <p:blipFill>
          <a:blip r:embed="rId1"/>
          <a:stretch/>
        </p:blipFill>
        <p:spPr>
          <a:xfrm>
            <a:off x="1981080" y="76320"/>
            <a:ext cx="21337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33720" y="23619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rebuchet MS"/>
              </a:rPr>
              <a:t>BAG O’ THING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Picture 4" descr="C:\Users\Kevin Burgess\AppData\Local\Microsoft\Windows\Temporary Internet Files\Content.IE5\NYPVPCIT\MP900402393[1].jpg"/>
          <p:cNvPicPr/>
          <p:nvPr/>
        </p:nvPicPr>
        <p:blipFill>
          <a:blip r:embed="rId1"/>
          <a:stretch/>
        </p:blipFill>
        <p:spPr>
          <a:xfrm>
            <a:off x="1828800" y="0"/>
            <a:ext cx="251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UILDING STAC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437920" y="2133720"/>
            <a:ext cx="6248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and your partner share a board, a die and cub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 A rolls the d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counts out that many cubes, connects them, and stands the tower up tall on the first square of his side of the bo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er B rolls the die, counts cubes and makes a tower on his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e until each square has a tower on 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an estimate – How many cubes do you have in al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, then count and record the number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your cubes into tens and ones and reco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C:\Users\Kevin Burgess\AppData\Local\Microsoft\Windows\Temporary Internet Files\Content.IE5\MH2VYHOL\MC900438451[1].jpg"/>
          <p:cNvPicPr/>
          <p:nvPr/>
        </p:nvPicPr>
        <p:blipFill>
          <a:blip r:embed="rId1"/>
          <a:stretch/>
        </p:blipFill>
        <p:spPr>
          <a:xfrm>
            <a:off x="1828800" y="0"/>
            <a:ext cx="24382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33720" y="34286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BUILDING STACK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2" descr="C:\Users\Kevin Burgess\AppData\Local\Microsoft\Windows\Temporary Internet Files\Content.IE5\MH2VYHOL\MC900438451[1].jpg"/>
          <p:cNvPicPr/>
          <p:nvPr/>
        </p:nvPicPr>
        <p:blipFill>
          <a:blip r:embed="rId1"/>
          <a:stretch/>
        </p:blipFill>
        <p:spPr>
          <a:xfrm>
            <a:off x="1828800" y="0"/>
            <a:ext cx="24382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OTS OF LIN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ose a line card and record its letter in the box on the recording she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the number of cubes it will take to fit along that line and record that numb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 the cubes along the line until the line is cover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 the number of cubes and record the number and w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the cubes into tens and ones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6" descr="lines.jpg"/>
          <p:cNvPicPr/>
          <p:nvPr/>
        </p:nvPicPr>
        <p:blipFill>
          <a:blip r:embed="rId1"/>
          <a:stretch/>
        </p:blipFill>
        <p:spPr>
          <a:xfrm>
            <a:off x="1828800" y="0"/>
            <a:ext cx="2338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5640" y="3580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LOTS OF LINE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6" descr="lines.jpg"/>
          <p:cNvPicPr/>
          <p:nvPr/>
        </p:nvPicPr>
        <p:blipFill>
          <a:blip r:embed="rId1"/>
          <a:stretch/>
        </p:blipFill>
        <p:spPr>
          <a:xfrm>
            <a:off x="1828800" y="0"/>
            <a:ext cx="2338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EASURE I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ose a piece of str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how many tiles will it take to measure the length of the str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y tiles along the string to determine the leng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 and record the number w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n, group the tiles by tens and leftov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your findings on the recording she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C:\Users\Kevin Burgess\AppData\Local\Microsoft\Windows\Temporary Internet Files\Content.IE5\NYPVPCIT\MP900175500[1].jpg"/>
          <p:cNvPicPr/>
          <p:nvPr/>
        </p:nvPicPr>
        <p:blipFill>
          <a:blip r:embed="rId1"/>
          <a:stretch/>
        </p:blipFill>
        <p:spPr>
          <a:xfrm>
            <a:off x="2133720" y="0"/>
            <a:ext cx="2438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28800" y="3504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MEASURE IT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2" descr="C:\Users\Kevin Burgess\AppData\Local\Microsoft\Windows\Temporary Internet Files\Content.IE5\NYPVPCIT\MP900175500[1].jpg"/>
          <p:cNvPicPr/>
          <p:nvPr/>
        </p:nvPicPr>
        <p:blipFill>
          <a:blip r:embed="rId1"/>
          <a:stretch/>
        </p:blipFill>
        <p:spPr>
          <a:xfrm>
            <a:off x="2133720" y="0"/>
            <a:ext cx="2438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2:37:45Z</dcterms:created>
  <dc:creator>Kevin Burgess</dc:creator>
  <dc:description/>
  <dc:language>en-US</dc:language>
  <cp:lastModifiedBy>Ana Flyod</cp:lastModifiedBy>
  <dcterms:modified xsi:type="dcterms:W3CDTF">2012-05-17T21:24:02Z</dcterms:modified>
  <cp:revision>21</cp:revision>
  <dc:subject/>
  <dc:title>Mittens and Gloves</dc:title>
</cp:coreProperties>
</file>